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9AA1A-A39A-4C42-AD36-BCEDD368F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663B2-78E0-4B63-81C4-CF1E932B1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EE3A0-9C0B-45E8-ABCD-AE92A291C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8818C-E6F0-496B-A61E-DEB7C4E3E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61C2-A5C2-4D11-B0FA-9D4E8828B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A6C81-8667-4C03-86A7-874384E9E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218FA-D31F-4600-A2F3-C2432F1C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9EEA9-0663-44F8-B7D6-B6D760E25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39BB7-AE59-40D0-A783-B6B772A91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1355-35AB-4F9C-892C-6C9195620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0092-F518-4D47-A9FB-D46B0A57C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E3EA-AE39-42A9-A7CB-37323C7F3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B55D-E524-4EE0-85AE-F182F86AB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Lepidoptera"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304920" y="228600"/>
            <a:ext cx="4038480" cy="44956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1" lang="en-US" sz="2000" spc="-1" strike="noStrike">
                <a:solidFill>
                  <a:srgbClr val="000000"/>
                </a:solidFill>
                <a:latin typeface="Comic Sans MS"/>
              </a:rPr>
              <a:t>fluture</a:t>
            </a:r>
            <a:r>
              <a:rPr b="0" lang="en-US" sz="2000" spc="-1" strike="noStrike">
                <a:solidFill>
                  <a:srgbClr val="000000"/>
                </a:solidFill>
                <a:latin typeface="Comic Sans MS"/>
              </a:rPr>
              <a:t> este o insectă din ordinul </a:t>
            </a:r>
            <a:r>
              <a:rPr b="0" lang="en-US" sz="2000" spc="-1" strike="noStrike" u="sng">
                <a:solidFill>
                  <a:srgbClr val="009999"/>
                </a:solidFill>
                <a:uFillTx/>
                <a:latin typeface="Comic Sans MS"/>
                <a:hlinkClick r:id="rId2"/>
              </a:rPr>
              <a:t>Lepidoptera</a:t>
            </a:r>
            <a:r>
              <a:rPr b="0" lang="en-US" sz="2000" spc="-1" strike="noStrike">
                <a:solidFill>
                  <a:srgbClr val="000000"/>
                </a:solidFill>
                <a:latin typeface="Comic Sans MS"/>
              </a:rPr>
              <a:t>. Scopul termenului depinde de cât de extins este conceptul de </a:t>
            </a:r>
            <a:r>
              <a:rPr b="0" i="1" lang="en-US" sz="2000" spc="-1" strike="noStrike">
                <a:solidFill>
                  <a:srgbClr val="000000"/>
                </a:solidFill>
                <a:latin typeface="Comic Sans MS"/>
              </a:rPr>
              <a:t>fluture</a:t>
            </a:r>
            <a:r>
              <a:rPr b="0" lang="en-US" sz="2000" spc="-1" strike="noStrike">
                <a:solidFill>
                  <a:srgbClr val="000000"/>
                </a:solidFill>
                <a:latin typeface="Comic Sans MS"/>
              </a:rPr>
              <a:t>. Ca și toate Lepidopterele, fluturii sunt de remarcat pentru ciclul lo de viață neobisnuit, cu un stadiu larvar de omidă, un stadiu inactiv de pupă și o metamorfoză spectaculoasă într-o formă familiară de adult cu aripi colorate. Deoarece cele mai multe specii zboară ziua, atrag de regulă atenția. Diversele modele formate pe aripile colorate și zborul lor extravagant și grațios au făcut ca observarea fluturilor să devină un hobby popular. </a:t>
            </a:r>
            <a:endParaRPr b="0" lang="en-US" sz="2000" spc="-1" strike="noStrike">
              <a:solidFill>
                <a:srgbClr val="000000"/>
              </a:solidFill>
              <a:latin typeface="Arial"/>
            </a:endParaRPr>
          </a:p>
        </p:txBody>
      </p:sp>
      <p:pic>
        <p:nvPicPr>
          <p:cNvPr id="43" name="" descr=""/>
          <p:cNvPicPr/>
          <p:nvPr/>
        </p:nvPicPr>
        <p:blipFill>
          <a:blip r:embed="rId3"/>
          <a:stretch/>
        </p:blipFill>
        <p:spPr>
          <a:xfrm>
            <a:off x="4114800" y="1219320"/>
            <a:ext cx="4876920" cy="36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5a3</cp:lastModifiedBy>
  <dcterms:modified xsi:type="dcterms:W3CDTF">2012-06-19T10:19:1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